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D8B-B6E1-420A-B1E8-A10C6730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709-1C25-4E4E-B625-609733A2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4E0-DE96-455B-AE71-84273557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D75-0FA5-49AE-887A-519A8B4E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3B1-C165-492A-B8F2-7B4940F1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C59-3CC5-4844-B714-B113E9C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828-3B27-4F60-B3C5-92246A75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4B4-1E72-4B29-A649-3C97FD36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201-D153-4681-AC70-7C139F6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BF4-4073-4AA7-9CCF-706C85C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BA3-A6F2-428C-9CFD-41F42099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30F-0130-4239-8468-55E59A34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1CD-8658-4B9F-A04B-58F526ACAEEB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kostyor.ru/student/?n=219" TargetMode="External"/><Relationship Id="rId4" Type="http://schemas.openxmlformats.org/officeDocument/2006/relationships/hyperlink" Target="http://www.kostyor.ru/student/?n=219" TargetMode="External"/><Relationship Id="rId5" Type="http://schemas.openxmlformats.org/officeDocument/2006/relationships/hyperlink" Target="http://www.kostyor.ru/student/?n=219" TargetMode="External"/><Relationship Id="rId6" Type="http://schemas.openxmlformats.org/officeDocument/2006/relationships/hyperlink" Target="http://www.kostyor.ru/student/?n=219" TargetMode="External"/><Relationship Id="rId7" Type="http://schemas.openxmlformats.org/officeDocument/2006/relationships/hyperlink" Target="http://www.kostyor.ru/student/?n=219" TargetMode="External"/><Relationship Id="rId8" Type="http://schemas.openxmlformats.org/officeDocument/2006/relationships/hyperlink" Target="http://www.kostyor.ru/student/?n=219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14360" y="1047600"/>
            <a:ext cx="8431200" cy="236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724280" y="3886200"/>
            <a:ext cx="426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полнила студентка филологического факультета 341группы Маланий Юлия  Владимировна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0040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620200" cy="1914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152800" y="3124080"/>
            <a:ext cx="55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Что такое повесть?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024920" y="2666880"/>
            <a:ext cx="762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аково идейно-художественное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воеобразие повести А.С. Пушкина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«Капитанская дочка»?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04920" y="2362320"/>
            <a:ext cx="84722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ормирование нравственных позиций учащихся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накомство с понятием «жанр повести»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накомство с художественным своеобразием повест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витие умений анализировать, синтезировать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 обобщать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4496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.Сочинение на одну из заданных тем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) Гринев и Швабрин: соперники или враг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) Образ слуги в повест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) Пугачевщина и ее предводитель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2.Составить кроссворд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3.Иллюстрации к повест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4.Презентация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Picture 2" descr="D:\КАРТИНКИ 1\Учеба\общее\ручки.WMF"/>
          <p:cNvPicPr/>
          <p:nvPr/>
        </p:nvPicPr>
        <p:blipFill>
          <a:blip r:embed="rId3"/>
          <a:stretch/>
        </p:blipFill>
        <p:spPr>
          <a:xfrm>
            <a:off x="4686480" y="1717560"/>
            <a:ext cx="28875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394840" cy="1086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6248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споры возникали о жанре повести «Капитанская дочка»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чем заключаются композиционные особенности повест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символические образы используются А.С. Пушкиным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средства использует автор для раскрытия образа Пугачева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овы жанровые особенности повест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3" descr="D:\КАРТИНКИ 1\Учеба\общее\книга.WMF"/>
          <p:cNvPicPr/>
          <p:nvPr/>
        </p:nvPicPr>
        <p:blipFill>
          <a:blip r:embed="rId3"/>
          <a:stretch/>
        </p:blipFill>
        <p:spPr>
          <a:xfrm>
            <a:off x="647712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242560" cy="214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КАРТИНКИ 1\Открытка.jpg"/>
          <p:cNvPicPr/>
          <p:nvPr/>
        </p:nvPicPr>
        <p:blipFill>
          <a:blip r:embed="rId3"/>
          <a:stretch/>
        </p:blipFill>
        <p:spPr>
          <a:xfrm>
            <a:off x="2590920" y="2666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414360" y="-79200"/>
            <a:ext cx="8242200" cy="164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1.Вводное занятие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распределение по группам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2.Выбор и поиск информаци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3.Самостоятельная работа      учащихся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4.Защита проект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www.kostyor.ru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7"/>
              </a:rPr>
              <a:t>student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8"/>
              </a:rPr>
              <a:t>/?n=219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(береги честь смолоду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http://www.litra.ru/composition/work/woid/00044501184773070500/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(3) http://www.referat.allserver.ru/?i=412808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студент</cp:lastModifiedBy>
  <dcterms:modified xsi:type="dcterms:W3CDTF">2010-04-29T05:34:53Z</dcterms:modified>
  <cp:revision>17</cp:revision>
  <dc:subject/>
  <dc:title>Урок обобщения по п</dc:title>
</cp:coreProperties>
</file>